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wmf" ContentType="image/x-wmf"/>
  <Override PartName="/ppt/media/image7.wmf" ContentType="image/x-wmf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45841-7D36-453F-B9B3-4FBCC6470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04D08-4B50-4A14-99B2-FC0BEF2F2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9A9DE-362F-439B-B8AE-90F1C065D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46ED9-D68E-4DCB-BDA6-13D22A7CF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63D35-9378-45E9-8F53-99C0D554C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0D1D0-AD6D-4A0E-8420-C1DB2F4BE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1362C-930F-443F-BC82-1428F9D2A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779D4-74B0-41E6-A3A5-63FD84C7A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8576C-491C-4AD7-AFC4-C6BFC2233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24D78-BD27-4870-9128-F83AC7512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3A7F8-1BD7-4E03-975F-F5EFD6418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004EB-0663-44CF-8D8F-69A391C8B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A433C-3A06-423B-87AF-4DDFF495BA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Progress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spo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merican Stud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hapter 1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533520" y="762120"/>
            <a:ext cx="3809880" cy="53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gressive Mov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dea = return control of the government to the people, restore economic opportunities, and correct injustices in American lif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oots???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o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otect social welf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omote moral impro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reate economic re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ster effici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olitical re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Progressive Move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GO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otecting social welf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ttlement houses, soup kitchens, YM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omoting moral re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ohib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reating economic re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uckrakers – journalists who wrote about corrupt business and poli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ostering effici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cientific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ssembly line p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5.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lection re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ttlement Hou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52280" y="1371600"/>
            <a:ext cx="4067280" cy="29685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5310360" y="1692360"/>
            <a:ext cx="2714400" cy="20001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5310360" y="4013280"/>
            <a:ext cx="2714400" cy="20383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264960" y="4648320"/>
            <a:ext cx="434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ssimilation, Education, Independ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tion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468520" y="1600200"/>
            <a:ext cx="4206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tion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2558880" y="1600200"/>
            <a:ext cx="40244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tion 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2475000" y="1600200"/>
            <a:ext cx="41925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oker T. and W.E.B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Section 6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the Booker T. and W.E.B. po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 these ques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the author seem to support the philosophy of Washington or Du Bois?  How can you tel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factors may have influenced the poet’s point of view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em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 two new stanzas for the poem, one from Washington’s perspective and one from Du Bois’ perspecti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llow the original poem’s structure and rhym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all of these words in your poe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oker T. stanza = accommodate, educate, publicity, Tuskeg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.E.B. stanza = agitate, debate, equality, NAAC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9T15:47:58Z</dcterms:created>
  <dc:creator> </dc:creator>
  <dc:description/>
  <dc:language>en-US</dc:language>
  <cp:lastModifiedBy>School District U46</cp:lastModifiedBy>
  <dcterms:modified xsi:type="dcterms:W3CDTF">2008-10-21T13:54:06Z</dcterms:modified>
  <cp:revision>2</cp:revision>
  <dc:subject/>
  <dc:title>Slide 1</dc:title>
</cp:coreProperties>
</file>